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A84-77DF-40E4-BC96-55D1C7501DF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673A-E23C-4476-837A-A1BCF8D469D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4A8A-C4DA-4177-997C-1B3EA9FE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862B-A139-411D-85CD-D095E2A3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6DE6-5D8B-4550-82F2-243F10B7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78B5-AB8C-4059-8465-7CED8A1F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F920-5E70-4875-AD83-80A9B6E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B5DA-E7C2-4FDC-BB42-759E694A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54DE-863A-4AF1-9F5B-48EE291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A2F7-B686-4158-BD20-DDF5CED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09F2-625E-4675-860D-C9B7A538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93FD-7D43-41CD-A044-7E6BAE2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FAB2-F8AC-4969-A5C1-9D70395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B934-F4AA-47C5-B348-CCA8208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0b0b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05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7F41-9E36-423E-B244-55F9E4673C3E}" type="slidenum"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mbria"/>
              </a:rPr>
              <a:t>Metric System Basics</a:t>
            </a:r>
            <a:endParaRPr b="0" lang="en-US" sz="6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try our previous example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6,093 meters =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,609.3 decameters =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60.93 hectomet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16.093 kilo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7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for every “step” from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e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l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e moved the decimal 1 place to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he same direction as in the diagram be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914400" y="5562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2133720" y="5562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3352680" y="55627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4400" y="4648320"/>
          <a:ext cx="8275680" cy="143172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143000"/>
                <a:gridCol w="1523880"/>
                <a:gridCol w="1035000"/>
                <a:gridCol w="1181160"/>
                <a:gridCol w="1182960"/>
              </a:tblGrid>
              <a:tr h="1438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move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, move the decimal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move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, move the decimal to 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8380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205740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AutoShape 24"/>
          <p:cNvSpPr/>
          <p:nvPr/>
        </p:nvSpPr>
        <p:spPr>
          <a:xfrm>
            <a:off x="31240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724280" y="4724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693432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5715000" y="4724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AutoShape 28"/>
          <p:cNvSpPr/>
          <p:nvPr/>
        </p:nvSpPr>
        <p:spPr>
          <a:xfrm rot="10800000">
            <a:off x="8377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AutoShape 29"/>
          <p:cNvSpPr/>
          <p:nvPr/>
        </p:nvSpPr>
        <p:spPr>
          <a:xfrm rot="10800000">
            <a:off x="20574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AutoShape 30"/>
          <p:cNvSpPr/>
          <p:nvPr/>
        </p:nvSpPr>
        <p:spPr>
          <a:xfrm rot="10800000">
            <a:off x="32004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AutoShape 31"/>
          <p:cNvSpPr/>
          <p:nvPr/>
        </p:nvSpPr>
        <p:spPr>
          <a:xfrm rot="10800000">
            <a:off x="473868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AutoShape 32"/>
          <p:cNvSpPr/>
          <p:nvPr/>
        </p:nvSpPr>
        <p:spPr>
          <a:xfrm rot="10800000">
            <a:off x="5791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AutoShape 33"/>
          <p:cNvSpPr/>
          <p:nvPr/>
        </p:nvSpPr>
        <p:spPr>
          <a:xfrm rot="10800000">
            <a:off x="6934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8600" y="5181480"/>
          <a:ext cx="8275680" cy="143208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143000"/>
                <a:gridCol w="1524240"/>
                <a:gridCol w="1035000"/>
                <a:gridCol w="1181160"/>
                <a:gridCol w="1182600"/>
              </a:tblGrid>
              <a:tr h="14382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5998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5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entimeter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0,000 centimeters = ______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0 . 0 . 0 . 0 . 0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imeters = 4 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00,000 centimeters = 4 kilo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3"/>
          <p:cNvSpPr/>
          <p:nvPr/>
        </p:nvSpPr>
        <p:spPr>
          <a:xfrm>
            <a:off x="4648320" y="4191120"/>
            <a:ext cx="914400" cy="75960"/>
          </a:xfrm>
          <a:custGeom>
            <a:avLst/>
            <a:gdLst/>
            <a:ahLst/>
            <a:rect l="l" t="t" r="r" b="b"/>
            <a:pathLst>
              <a:path w="576" h="48">
                <a:moveTo>
                  <a:pt x="576" y="0"/>
                </a:moveTo>
                <a:cubicBezTo>
                  <a:pt x="564" y="24"/>
                  <a:pt x="552" y="48"/>
                  <a:pt x="528" y="48"/>
                </a:cubicBezTo>
                <a:cubicBezTo>
                  <a:pt x="504" y="48"/>
                  <a:pt x="456" y="0"/>
                  <a:pt x="432" y="0"/>
                </a:cubicBezTo>
                <a:cubicBezTo>
                  <a:pt x="408" y="0"/>
                  <a:pt x="400" y="48"/>
                  <a:pt x="384" y="48"/>
                </a:cubicBezTo>
                <a:cubicBezTo>
                  <a:pt x="368" y="48"/>
                  <a:pt x="352" y="0"/>
                  <a:pt x="336" y="0"/>
                </a:cubicBezTo>
                <a:cubicBezTo>
                  <a:pt x="320" y="0"/>
                  <a:pt x="304" y="48"/>
                  <a:pt x="288" y="48"/>
                </a:cubicBezTo>
                <a:cubicBezTo>
                  <a:pt x="272" y="48"/>
                  <a:pt x="256" y="0"/>
                  <a:pt x="240" y="0"/>
                </a:cubicBezTo>
                <a:cubicBezTo>
                  <a:pt x="224" y="0"/>
                  <a:pt x="208" y="48"/>
                  <a:pt x="192" y="48"/>
                </a:cubicBezTo>
                <a:cubicBezTo>
                  <a:pt x="176" y="48"/>
                  <a:pt x="160" y="0"/>
                  <a:pt x="144" y="0"/>
                </a:cubicBezTo>
                <a:cubicBezTo>
                  <a:pt x="128" y="0"/>
                  <a:pt x="120" y="48"/>
                  <a:pt x="96" y="48"/>
                </a:cubicBezTo>
                <a:cubicBezTo>
                  <a:pt x="72" y="48"/>
                  <a:pt x="36" y="24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10526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AutoShape 23"/>
          <p:cNvSpPr/>
          <p:nvPr/>
        </p:nvSpPr>
        <p:spPr>
          <a:xfrm>
            <a:off x="2271600" y="5257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AutoShape 24"/>
          <p:cNvSpPr/>
          <p:nvPr/>
        </p:nvSpPr>
        <p:spPr>
          <a:xfrm>
            <a:off x="33386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AutoShape 25"/>
          <p:cNvSpPr/>
          <p:nvPr/>
        </p:nvSpPr>
        <p:spPr>
          <a:xfrm>
            <a:off x="4938840" y="5257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5929200" y="52578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U-Turn Arrow 1"/>
          <p:cNvSpPr/>
          <p:nvPr/>
        </p:nvSpPr>
        <p:spPr>
          <a:xfrm rot="10800000">
            <a:off x="27432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U-Turn Arrow 43"/>
          <p:cNvSpPr/>
          <p:nvPr/>
        </p:nvSpPr>
        <p:spPr>
          <a:xfrm rot="10800000">
            <a:off x="32004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U-Turn Arrow 44"/>
          <p:cNvSpPr/>
          <p:nvPr/>
        </p:nvSpPr>
        <p:spPr>
          <a:xfrm rot="10800000">
            <a:off x="22860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U-Turn Arrow 45"/>
          <p:cNvSpPr/>
          <p:nvPr/>
        </p:nvSpPr>
        <p:spPr>
          <a:xfrm rot="10800000">
            <a:off x="182880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U-Turn Arrow 46"/>
          <p:cNvSpPr/>
          <p:nvPr/>
        </p:nvSpPr>
        <p:spPr>
          <a:xfrm rot="10800000">
            <a:off x="1219320" y="3580920"/>
            <a:ext cx="38088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381000"/>
                </a:moveTo>
                <a:lnTo>
                  <a:pt x="0" y="166688"/>
                </a:lnTo>
                <a:cubicBezTo>
                  <a:pt x="0" y="74629"/>
                  <a:pt x="74629" y="0"/>
                  <a:pt x="166688" y="0"/>
                </a:cubicBezTo>
                <a:lnTo>
                  <a:pt x="166688" y="0"/>
                </a:lnTo>
                <a:cubicBezTo>
                  <a:pt x="258747" y="0"/>
                  <a:pt x="333376" y="74629"/>
                  <a:pt x="333376" y="166688"/>
                </a:cubicBezTo>
                <a:cubicBezTo>
                  <a:pt x="333376" y="174625"/>
                  <a:pt x="333375" y="182563"/>
                  <a:pt x="333375" y="190500"/>
                </a:cubicBezTo>
                <a:lnTo>
                  <a:pt x="381000" y="190500"/>
                </a:lnTo>
                <a:lnTo>
                  <a:pt x="285750" y="285750"/>
                </a:lnTo>
                <a:lnTo>
                  <a:pt x="190500" y="190500"/>
                </a:lnTo>
                <a:lnTo>
                  <a:pt x="238125" y="190500"/>
                </a:lnTo>
                <a:lnTo>
                  <a:pt x="238125" y="166688"/>
                </a:lnTo>
                <a:cubicBezTo>
                  <a:pt x="238125" y="127234"/>
                  <a:pt x="206141" y="95250"/>
                  <a:pt x="166687" y="95250"/>
                </a:cubicBezTo>
                <a:lnTo>
                  <a:pt x="166688" y="95250"/>
                </a:lnTo>
                <a:cubicBezTo>
                  <a:pt x="127234" y="95250"/>
                  <a:pt x="95250" y="127234"/>
                  <a:pt x="95250" y="166688"/>
                </a:cubicBezTo>
                <a:lnTo>
                  <a:pt x="95250" y="381000"/>
                </a:lnTo>
                <a:lnTo>
                  <a:pt x="0" y="381000"/>
                </a:lnTo>
                <a:close/>
              </a:path>
            </a:pathLst>
          </a:custGeom>
          <a:solidFill>
            <a:srgbClr val="050505"/>
          </a:solidFill>
          <a:ln w="12600">
            <a:solidFill>
              <a:srgbClr val="050505"/>
            </a:solidFill>
            <a:round/>
          </a:ln>
          <a:effectLst>
            <a:outerShdw dist="2556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56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0 meters = ___ kilo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3200400"/>
          <a:ext cx="8202600" cy="1076400"/>
        </p:xfrm>
        <a:graphic>
          <a:graphicData uri="http://schemas.openxmlformats.org/drawingml/2006/table">
            <a:tbl>
              <a:tblPr/>
              <a:tblGrid>
                <a:gridCol w="1173240"/>
                <a:gridCol w="1170000"/>
                <a:gridCol w="1174680"/>
                <a:gridCol w="1166760"/>
                <a:gridCol w="1175040"/>
                <a:gridCol w="1170000"/>
                <a:gridCol w="1172880"/>
              </a:tblGrid>
              <a:tr h="1081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22"/>
          <p:cNvSpPr/>
          <p:nvPr/>
        </p:nvSpPr>
        <p:spPr>
          <a:xfrm>
            <a:off x="3581280" y="35812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2362320" y="3581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1143000" y="3581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5715000"/>
          <a:ext cx="8381880" cy="10764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47"/>
          <p:cNvSpPr/>
          <p:nvPr/>
        </p:nvSpPr>
        <p:spPr>
          <a:xfrm>
            <a:off x="4648320" y="60958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AutoShape 48"/>
          <p:cNvSpPr/>
          <p:nvPr/>
        </p:nvSpPr>
        <p:spPr>
          <a:xfrm>
            <a:off x="5791320" y="60958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380880" y="4343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w l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start from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centimeter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d convert t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000 centimeters = ____ 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1447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eters = ____ cent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" y="3124080"/>
          <a:ext cx="8381880" cy="10764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199880"/>
                <a:gridCol w="119412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52280" y="5834160"/>
          <a:ext cx="8382240" cy="1076400"/>
        </p:xfrm>
        <a:graphic>
          <a:graphicData uri="http://schemas.openxmlformats.org/drawingml/2006/table">
            <a:tbl>
              <a:tblPr/>
              <a:tblGrid>
                <a:gridCol w="1198800"/>
                <a:gridCol w="1195200"/>
                <a:gridCol w="1200240"/>
                <a:gridCol w="1193760"/>
                <a:gridCol w="1200240"/>
                <a:gridCol w="1195200"/>
                <a:gridCol w="119880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45"/>
          <p:cNvSpPr/>
          <p:nvPr/>
        </p:nvSpPr>
        <p:spPr>
          <a:xfrm>
            <a:off x="533520" y="4267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w l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 start from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nd convert to </a:t>
            </a:r>
            <a:r>
              <a:rPr b="1" i="1" lang="en-US" sz="2800" spc="-1" strike="noStrike">
                <a:solidFill>
                  <a:srgbClr val="000000"/>
                </a:solidFill>
                <a:latin typeface="Century Gothic"/>
              </a:rPr>
              <a:t>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3 kilometers =______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AutoShape 46"/>
          <p:cNvSpPr/>
          <p:nvPr/>
        </p:nvSpPr>
        <p:spPr>
          <a:xfrm rot="10800000">
            <a:off x="4583160" y="354024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AutoShape 47"/>
          <p:cNvSpPr/>
          <p:nvPr/>
        </p:nvSpPr>
        <p:spPr>
          <a:xfrm rot="10800000">
            <a:off x="5802480" y="354024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AutoShape 48"/>
          <p:cNvSpPr/>
          <p:nvPr/>
        </p:nvSpPr>
        <p:spPr>
          <a:xfrm rot="10800000">
            <a:off x="1143000" y="6249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AutoShape 49"/>
          <p:cNvSpPr/>
          <p:nvPr/>
        </p:nvSpPr>
        <p:spPr>
          <a:xfrm rot="10800000">
            <a:off x="2362320" y="6249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AutoShape 50"/>
          <p:cNvSpPr/>
          <p:nvPr/>
        </p:nvSpPr>
        <p:spPr>
          <a:xfrm rot="10800000">
            <a:off x="3580920" y="624960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5235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tart fro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ilo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nvert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kilometers = 4,00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0 milli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 kilomet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40 hectometers = 400 decameters = 4,000 meters = 40,000 decimeters = 400,000 centimeters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,000,000 milli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5334120"/>
          <a:ext cx="8381880" cy="10760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AutoShape 24"/>
          <p:cNvSpPr/>
          <p:nvPr/>
        </p:nvSpPr>
        <p:spPr>
          <a:xfrm rot="10800000">
            <a:off x="9907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AutoShape 28"/>
          <p:cNvSpPr/>
          <p:nvPr/>
        </p:nvSpPr>
        <p:spPr>
          <a:xfrm rot="10800000">
            <a:off x="342900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AutoShape 29"/>
          <p:cNvSpPr/>
          <p:nvPr/>
        </p:nvSpPr>
        <p:spPr>
          <a:xfrm rot="10800000">
            <a:off x="4648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AutoShape 30"/>
          <p:cNvSpPr/>
          <p:nvPr/>
        </p:nvSpPr>
        <p:spPr>
          <a:xfrm rot="10800000">
            <a:off x="5791320" y="57146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AutoShape 31"/>
          <p:cNvSpPr/>
          <p:nvPr/>
        </p:nvSpPr>
        <p:spPr>
          <a:xfrm rot="10800000">
            <a:off x="70099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AutoShape 32"/>
          <p:cNvSpPr/>
          <p:nvPr/>
        </p:nvSpPr>
        <p:spPr>
          <a:xfrm rot="10800000">
            <a:off x="2209320" y="57146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5235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units in the metric system ar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ric system is based o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owers of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conversions within the metric system, each “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 decimal place to the right or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8240" indent="-21024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diagram below, converting to the right, moves the decimal to the right and vice ve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5562720"/>
          <a:ext cx="8381880" cy="10760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81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ric system is based on a base unit that corresponds to a certain kind of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ngth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ight (Mass)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17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es plus base units make up the metric syst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meter = Cent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84600" indent="-223920"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il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liter = Kilol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0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hree prefix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we will use the most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o – 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i – 1/1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li – 1/1,000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4876920"/>
          <a:ext cx="8275680" cy="149364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needed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e 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 would choo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you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tree bra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 me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et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 of a ball of twine stretched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99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4475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9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what if you need to measure a longer distance, like from your house to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1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say you live approximately 10 miles from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4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les = 16,093 me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15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,093 is a big number, but what if you could add a prefix onto the base unit to make it easier to man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4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,093 meters = 16.093 kilometers (or 16.1 if rounded to 1 decimal pla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4475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75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prefixes are based on powers of 10. What does this mea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70000"/>
              </a:lnSpc>
              <a:spcBef>
                <a:spcPts val="14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each prefix every “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0 ti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es 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la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10 times </a:t>
            </a:r>
            <a:r>
              <a:rPr b="1" i="1" lang="en-US" sz="2600" spc="-1" strike="noStrike">
                <a:solidFill>
                  <a:srgbClr val="ff0000"/>
                </a:solidFill>
                <a:latin typeface="Calibri"/>
              </a:rPr>
              <a:t>sma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34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70000"/>
              </a:lnSpc>
              <a:spcBef>
                <a:spcPts val="700"/>
              </a:spcBef>
              <a:buClr>
                <a:srgbClr val="0b0b0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10 times larger tha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ntimeter = 10 millime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95480" y="18284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imeters are 10 times larger than millimeters so it takes more millimeters for the same leng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entimeter = 10 milli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5029200"/>
          <a:ext cx="6248520" cy="549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m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222"/>
          <p:cNvSpPr/>
          <p:nvPr/>
        </p:nvSpPr>
        <p:spPr>
          <a:xfrm>
            <a:off x="1523880" y="5975280"/>
            <a:ext cx="624852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 c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Line 224"/>
          <p:cNvSpPr/>
          <p:nvPr/>
        </p:nvSpPr>
        <p:spPr>
          <a:xfrm>
            <a:off x="1523880" y="597528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Line 225"/>
          <p:cNvSpPr/>
          <p:nvPr/>
        </p:nvSpPr>
        <p:spPr>
          <a:xfrm>
            <a:off x="1523880" y="6248520"/>
            <a:ext cx="6248520" cy="0"/>
          </a:xfrm>
          <a:prstGeom prst="line">
            <a:avLst/>
          </a:prstGeom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Line 226"/>
          <p:cNvSpPr/>
          <p:nvPr/>
        </p:nvSpPr>
        <p:spPr>
          <a:xfrm>
            <a:off x="1523880" y="59752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Line 236"/>
          <p:cNvSpPr/>
          <p:nvPr/>
        </p:nvSpPr>
        <p:spPr>
          <a:xfrm>
            <a:off x="7772400" y="5975280"/>
            <a:ext cx="0" cy="2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1" name="Picture 370" descr="E:\My Pictures\ms.jpg"/>
          <p:cNvPicPr/>
          <p:nvPr/>
        </p:nvPicPr>
        <p:blipFill>
          <a:blip r:embed="rId1"/>
          <a:stretch/>
        </p:blipFill>
        <p:spPr>
          <a:xfrm>
            <a:off x="228600" y="2598840"/>
            <a:ext cx="3040200" cy="1439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71"/>
          <p:cNvSpPr/>
          <p:nvPr/>
        </p:nvSpPr>
        <p:spPr>
          <a:xfrm>
            <a:off x="121932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Text Box 372"/>
          <p:cNvSpPr/>
          <p:nvPr/>
        </p:nvSpPr>
        <p:spPr>
          <a:xfrm>
            <a:off x="754380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Text Box 373"/>
          <p:cNvSpPr/>
          <p:nvPr/>
        </p:nvSpPr>
        <p:spPr>
          <a:xfrm>
            <a:off x="75438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Text Box 374"/>
          <p:cNvSpPr/>
          <p:nvPr/>
        </p:nvSpPr>
        <p:spPr>
          <a:xfrm>
            <a:off x="129528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5238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“step” to right, you are multiplying by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4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go from a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base un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enti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2276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liter =  10 deciliters = 100 centili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 grams = 20 decigrams = 200 centi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2041200" y="403848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 1 x 10 = 10)     =    (10 x 10 = 1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822680" y="4952880"/>
            <a:ext cx="66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 x 10 = 20)           =       (20 x 10 = 2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280" y="5257800"/>
          <a:ext cx="8275680" cy="149400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1523880"/>
                <a:gridCol w="1035000"/>
                <a:gridCol w="1181160"/>
                <a:gridCol w="1182600"/>
              </a:tblGrid>
              <a:tr h="1806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ec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mbria"/>
              </a:rPr>
              <a:t>Metric System</a:t>
            </a:r>
            <a:endParaRPr b="0" lang="en-US" sz="4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2280" y="1447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easy way to move within the metric system is by moving the decimal point one place for each “step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es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: chang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mete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 meter =  10 decimeters = 100 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00 meter = 10.0 decimeters = 100. centi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23"/>
          <p:cNvSpPr/>
          <p:nvPr/>
        </p:nvSpPr>
        <p:spPr>
          <a:xfrm rot="10800000">
            <a:off x="4800600" y="63241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AutoShape 24"/>
          <p:cNvSpPr/>
          <p:nvPr/>
        </p:nvSpPr>
        <p:spPr>
          <a:xfrm rot="10800000">
            <a:off x="6019920" y="63241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7:37:18Z</dcterms:created>
  <dc:creator>ar</dc:creator>
  <dc:description/>
  <dc:language>en-US</dc:language>
  <cp:lastModifiedBy>St. Aloysius</cp:lastModifiedBy>
  <cp:lastPrinted>2012-09-11T15:39:28Z</cp:lastPrinted>
  <dcterms:modified xsi:type="dcterms:W3CDTF">2012-10-01T17:13:45Z</dcterms:modified>
  <cp:revision>71</cp:revision>
  <dc:subject/>
  <dc:title>Metric System Basics</dc:title>
</cp:coreProperties>
</file>